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zapbig0g.wav" ContentType="audio/x-wav"/>
  <Override PartName="/ppt/media/zipdn102.wav" ContentType="audio/x-wav"/>
  <Override PartName="/ppt/media/bserie06.wav" ContentType="audio/x-wav"/>
  <Override PartName="/ppt/media/jetflyby2.wav" ContentType="audio/x-wav"/>
  <Override PartName="/ppt/media/highchime.wav" ContentType="audio/x-wav"/>
  <Override PartName="/ppt/media/hzipup01.wav" ContentType="audio/x-wav"/>
  <Override PartName="/ppt/media/partyhor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78B-93D1-4448-94C5-5200D8AF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A55B-8D4D-4681-8987-86AE9D6B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625-3764-4C70-8C14-3BD2B2BA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930-55C0-4160-8292-2A3BE38F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383-0432-42D2-A589-F6DB3D84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C7E-6075-434D-A773-63FB30F6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49F-2F8A-40F9-B2CB-4FEED03F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E48-24A7-40FD-A584-79339CAD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860-C2B2-4E8A-AD60-10E6DB50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F29-1AEA-482B-9A71-C22243F3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DBB5-48CD-4358-8C63-4941A0E9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1FD-4D14-4152-BB34-B00F1255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90A9-9F54-49F3-BB3E-B290E3F86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jetflyby2.wav"/><Relationship Id="rId5" Type="http://schemas.openxmlformats.org/officeDocument/2006/relationships/audio" Target="../media/bserie06.wav"/><Relationship Id="rId6" Type="http://schemas.openxmlformats.org/officeDocument/2006/relationships/audio" Target="../media/jetflyby2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jetflyby2.wav"/><Relationship Id="rId11" Type="http://schemas.openxmlformats.org/officeDocument/2006/relationships/audio" Target="../media/highchime.wav"/><Relationship Id="rId12" Type="http://schemas.openxmlformats.org/officeDocument/2006/relationships/audio" Target="../media/bserie06.wav"/><Relationship Id="rId13" Type="http://schemas.openxmlformats.org/officeDocument/2006/relationships/audio" Target="../media/jetflyby2.wav"/><Relationship Id="rId14" Type="http://schemas.openxmlformats.org/officeDocument/2006/relationships/audio" Target="../media/highchime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jetflyby2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bserie06.wav"/><Relationship Id="rId21" Type="http://schemas.openxmlformats.org/officeDocument/2006/relationships/audio" Target="../media/jetflyby2.wav"/><Relationship Id="rId22" Type="http://schemas.openxmlformats.org/officeDocument/2006/relationships/audio" Target="../media/bserie06.wav"/><Relationship Id="rId23" Type="http://schemas.openxmlformats.org/officeDocument/2006/relationships/audio" Target="../media/jetflyby2.wav"/><Relationship Id="rId24" Type="http://schemas.openxmlformats.org/officeDocument/2006/relationships/audio" Target="../media/bserie06.wav"/><Relationship Id="rId25" Type="http://schemas.openxmlformats.org/officeDocument/2006/relationships/audio" Target="../media/jetflyby2.wav"/><Relationship Id="rId26" Type="http://schemas.openxmlformats.org/officeDocument/2006/relationships/audio" Target="../media/bserie06.wav"/><Relationship Id="rId27" Type="http://schemas.openxmlformats.org/officeDocument/2006/relationships/audio" Target="../media/jetflyby2.wav"/><Relationship Id="rId28" Type="http://schemas.openxmlformats.org/officeDocument/2006/relationships/audio" Target="../media/highchime.wav"/><Relationship Id="rId29" Type="http://schemas.openxmlformats.org/officeDocument/2006/relationships/audio" Target="../media/bserie06.wav"/><Relationship Id="rId30" Type="http://schemas.openxmlformats.org/officeDocument/2006/relationships/audio" Target="../media/jetflyby2.wav"/><Relationship Id="rId31" Type="http://schemas.openxmlformats.org/officeDocument/2006/relationships/audio" Target="../media/highchime.wav"/><Relationship Id="rId3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zapbig0g.wav"/><Relationship Id="rId11" Type="http://schemas.openxmlformats.org/officeDocument/2006/relationships/audio" Target="../media/bserie06.wav"/><Relationship Id="rId12" Type="http://schemas.openxmlformats.org/officeDocument/2006/relationships/audio" Target="../media/jetflyby2.wav"/><Relationship Id="rId13" Type="http://schemas.openxmlformats.org/officeDocument/2006/relationships/audio" Target="../media/bserie06.wav"/><Relationship Id="rId14" Type="http://schemas.openxmlformats.org/officeDocument/2006/relationships/audio" Target="../media/jetflyby2.wav"/><Relationship Id="rId15" Type="http://schemas.openxmlformats.org/officeDocument/2006/relationships/audio" Target="../media/bserie06.wav"/><Relationship Id="rId16" Type="http://schemas.openxmlformats.org/officeDocument/2006/relationships/audio" Target="../media/jetflyby2.wav"/><Relationship Id="rId17" Type="http://schemas.openxmlformats.org/officeDocument/2006/relationships/audio" Target="../media/bserie06.wav"/><Relationship Id="rId18" Type="http://schemas.openxmlformats.org/officeDocument/2006/relationships/audio" Target="../media/jetflyby2.wav"/><Relationship Id="rId19" Type="http://schemas.openxmlformats.org/officeDocument/2006/relationships/audio" Target="../media/bserie06.wav"/><Relationship Id="rId20" Type="http://schemas.openxmlformats.org/officeDocument/2006/relationships/audio" Target="../media/jetflyby2.wav"/><Relationship Id="rId21" Type="http://schemas.openxmlformats.org/officeDocument/2006/relationships/audio" Target="../media/highchime.wav"/><Relationship Id="rId22" Type="http://schemas.openxmlformats.org/officeDocument/2006/relationships/audio" Target="../media/bserie06.wav"/><Relationship Id="rId23" Type="http://schemas.openxmlformats.org/officeDocument/2006/relationships/audio" Target="../media/jetflyby2.wav"/><Relationship Id="rId24" Type="http://schemas.openxmlformats.org/officeDocument/2006/relationships/audio" Target="../media/highchime.wav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jetflyby2.wav"/><Relationship Id="rId3" Type="http://schemas.openxmlformats.org/officeDocument/2006/relationships/audio" Target="../media/highchime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hzipup01.wav"/><Relationship Id="rId12" Type="http://schemas.openxmlformats.org/officeDocument/2006/relationships/audio" Target="../media/jetflyby2.wav"/><Relationship Id="rId13" Type="http://schemas.openxmlformats.org/officeDocument/2006/relationships/audio" Target="../media/hzipup01.wav"/><Relationship Id="rId14" Type="http://schemas.openxmlformats.org/officeDocument/2006/relationships/audio" Target="../media/jetflyby2.wav"/><Relationship Id="rId15" Type="http://schemas.openxmlformats.org/officeDocument/2006/relationships/audio" Target="../media/zipdn102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partyhorn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hzipup01.wav"/><Relationship Id="rId14" Type="http://schemas.openxmlformats.org/officeDocument/2006/relationships/audio" Target="../media/zipdn102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hzipup01.wav"/><Relationship Id="rId18" Type="http://schemas.openxmlformats.org/officeDocument/2006/relationships/audio" Target="../media/jetflyby2.wav"/><Relationship Id="rId19" Type="http://schemas.openxmlformats.org/officeDocument/2006/relationships/audio" Target="../media/hzipup01.wav"/><Relationship Id="rId20" Type="http://schemas.openxmlformats.org/officeDocument/2006/relationships/audio" Target="../media/jetflyby2.wav"/><Relationship Id="rId21" Type="http://schemas.openxmlformats.org/officeDocument/2006/relationships/audio" Target="../media/zipdn102.wav"/><Relationship Id="rId22" Type="http://schemas.openxmlformats.org/officeDocument/2006/relationships/audio" Target="../media/bserie06.wav"/><Relationship Id="rId23" Type="http://schemas.openxmlformats.org/officeDocument/2006/relationships/audio" Target="../media/bserie06.wav"/><Relationship Id="rId24" Type="http://schemas.openxmlformats.org/officeDocument/2006/relationships/audio" Target="../media/partyhorn.wav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jetflyby2.wav"/><Relationship Id="rId15" Type="http://schemas.openxmlformats.org/officeDocument/2006/relationships/audio" Target="../media/hzipup01.wav"/><Relationship Id="rId16" Type="http://schemas.openxmlformats.org/officeDocument/2006/relationships/audio" Target="../media/jetflyby2.wav"/><Relationship Id="rId17" Type="http://schemas.openxmlformats.org/officeDocument/2006/relationships/audio" Target="../media/zipdn102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partyhorn.wav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hzipup01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jetflyby2.wav"/><Relationship Id="rId14" Type="http://schemas.openxmlformats.org/officeDocument/2006/relationships/audio" Target="../media/zipdn102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partyhorn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Find the pattern. Then, find the next two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26880" y="1355760"/>
                <a:ext cx="70628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, 7, 10, 13, ___, ___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190520" y="2192400"/>
                <a:ext cx="91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462560" y="1265400"/>
                <a:ext cx="79056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659560" y="1276200"/>
                <a:ext cx="79056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7" name=""/>
          <p:cNvCxnSpPr/>
          <p:nvPr/>
        </p:nvCxnSpPr>
        <p:spPr>
          <a:xfrm flipH="1" rot="16200000">
            <a:off x="1837080" y="1715760"/>
            <a:ext cx="252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044800" y="2178000"/>
                <a:ext cx="91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9" name=""/>
          <p:cNvCxnSpPr/>
          <p:nvPr/>
        </p:nvCxnSpPr>
        <p:spPr>
          <a:xfrm flipH="1" rot="16200000">
            <a:off x="2601000" y="1714320"/>
            <a:ext cx="216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851200" y="2160720"/>
                <a:ext cx="91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1" name=""/>
          <p:cNvCxnSpPr/>
          <p:nvPr/>
        </p:nvCxnSpPr>
        <p:spPr>
          <a:xfrm flipH="1" rot="16200000">
            <a:off x="3369600" y="1709640"/>
            <a:ext cx="216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841920" y="2155680"/>
                <a:ext cx="9111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3" name=""/>
          <p:cNvCxnSpPr/>
          <p:nvPr/>
        </p:nvCxnSpPr>
        <p:spPr>
          <a:xfrm flipH="1" rot="16200000">
            <a:off x="4269600" y="1746000"/>
            <a:ext cx="216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960800" y="2139840"/>
                <a:ext cx="91152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5" name=""/>
          <p:cNvCxnSpPr/>
          <p:nvPr/>
        </p:nvCxnSpPr>
        <p:spPr>
          <a:xfrm flipH="1" rot="16200000">
            <a:off x="5388840" y="1730160"/>
            <a:ext cx="216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63600" y="4222800"/>
                <a:ext cx="71708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6, 18, 54, ___, ___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263600" y="5076720"/>
                <a:ext cx="947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19440" y="4270320"/>
                <a:ext cx="9954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692680" y="4246560"/>
                <a:ext cx="10764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0" name=""/>
          <p:cNvCxnSpPr/>
          <p:nvPr/>
        </p:nvCxnSpPr>
        <p:spPr>
          <a:xfrm flipH="1" rot="16200000">
            <a:off x="1928520" y="4582440"/>
            <a:ext cx="2520" cy="570960"/>
          </a:xfrm>
          <a:prstGeom prst="curvedConnector5">
            <a:avLst>
              <a:gd name="adj1" fmla="val 14500000"/>
              <a:gd name="adj2" fmla="val 49968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171880" y="5078520"/>
                <a:ext cx="12031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2" name=""/>
          <p:cNvCxnSpPr/>
          <p:nvPr/>
        </p:nvCxnSpPr>
        <p:spPr>
          <a:xfrm flipH="1" rot="16200000">
            <a:off x="2691720" y="4581360"/>
            <a:ext cx="216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649520" y="3271680"/>
                <a:ext cx="61884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4" name=""/>
          <p:cNvCxnSpPr/>
          <p:nvPr/>
        </p:nvCxnSpPr>
        <p:spPr>
          <a:xfrm flipH="1" flipV="1" rot="5400000">
            <a:off x="1944360" y="3927240"/>
            <a:ext cx="16560" cy="708480"/>
          </a:xfrm>
          <a:prstGeom prst="bentConnector3">
            <a:avLst>
              <a:gd name="adj1" fmla="val 2268888"/>
            </a:avLst>
          </a:prstGeom>
          <a:ln w="38160">
            <a:solidFill>
              <a:srgbClr val="0066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425680" y="3271680"/>
                <a:ext cx="6192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6" name=""/>
          <p:cNvCxnSpPr/>
          <p:nvPr/>
        </p:nvCxnSpPr>
        <p:spPr>
          <a:xfrm flipH="1" flipV="1" rot="5400000">
            <a:off x="2720520" y="3926880"/>
            <a:ext cx="16560" cy="708840"/>
          </a:xfrm>
          <a:prstGeom prst="bentConnector3">
            <a:avLst>
              <a:gd name="adj1" fmla="val 2268888"/>
            </a:avLst>
          </a:prstGeom>
          <a:ln w="38160">
            <a:solidFill>
              <a:srgbClr val="0066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03640" y="3271680"/>
                <a:ext cx="6192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8" name=""/>
          <p:cNvCxnSpPr/>
          <p:nvPr/>
        </p:nvCxnSpPr>
        <p:spPr>
          <a:xfrm flipH="1" flipV="1" rot="5400000">
            <a:off x="3498480" y="3927240"/>
            <a:ext cx="16560" cy="708480"/>
          </a:xfrm>
          <a:prstGeom prst="bentConnector3">
            <a:avLst>
              <a:gd name="adj1" fmla="val 2268888"/>
            </a:avLst>
          </a:prstGeom>
          <a:ln w="38160">
            <a:solidFill>
              <a:srgbClr val="0066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010040" y="3271680"/>
                <a:ext cx="6192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0" name=""/>
          <p:cNvCxnSpPr/>
          <p:nvPr/>
        </p:nvCxnSpPr>
        <p:spPr>
          <a:xfrm flipH="1" flipV="1" rot="5400000">
            <a:off x="4304880" y="3926880"/>
            <a:ext cx="16560" cy="708840"/>
          </a:xfrm>
          <a:prstGeom prst="bentConnector3">
            <a:avLst>
              <a:gd name="adj1" fmla="val 2268888"/>
            </a:avLst>
          </a:prstGeom>
          <a:ln w="38160">
            <a:solidFill>
              <a:srgbClr val="0066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07120" y="3271680"/>
                <a:ext cx="61884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2" name=""/>
          <p:cNvCxnSpPr/>
          <p:nvPr/>
        </p:nvCxnSpPr>
        <p:spPr>
          <a:xfrm flipH="1" flipV="1" rot="5400000">
            <a:off x="5601960" y="3927240"/>
            <a:ext cx="16560" cy="708480"/>
          </a:xfrm>
          <a:prstGeom prst="bentConnector3">
            <a:avLst>
              <a:gd name="adj1" fmla="val 2268888"/>
            </a:avLst>
          </a:prstGeom>
          <a:ln w="38160">
            <a:solidFill>
              <a:srgbClr val="00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1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Find the pattern. Then, find the next two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80880" y="1330200"/>
                <a:ext cx="75726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 0, 3, 0, 5, 0,___, ___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635120" y="2262240"/>
                <a:ext cx="947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1320" y="1328760"/>
                <a:ext cx="5000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512040" y="1316160"/>
                <a:ext cx="500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9" name=""/>
          <p:cNvCxnSpPr/>
          <p:nvPr/>
        </p:nvCxnSpPr>
        <p:spPr>
          <a:xfrm flipH="1" rot="16200000">
            <a:off x="2153160" y="1533600"/>
            <a:ext cx="2520" cy="1036080"/>
          </a:xfrm>
          <a:prstGeom prst="curvedConnector5">
            <a:avLst>
              <a:gd name="adj1" fmla="val 14500000"/>
              <a:gd name="adj2" fmla="val 49982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822400" y="2266920"/>
                <a:ext cx="947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81" name=""/>
          <p:cNvCxnSpPr/>
          <p:nvPr/>
        </p:nvCxnSpPr>
        <p:spPr>
          <a:xfrm flipH="1" rot="16200000">
            <a:off x="3323880" y="1533960"/>
            <a:ext cx="2520" cy="103572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081320" y="2251080"/>
                <a:ext cx="947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83" name=""/>
          <p:cNvCxnSpPr/>
          <p:nvPr/>
        </p:nvCxnSpPr>
        <p:spPr>
          <a:xfrm flipH="1" rot="16200000">
            <a:off x="4546080" y="1533960"/>
            <a:ext cx="2520" cy="103572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12840" y="4195800"/>
                <a:ext cx="77896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 7,  3,  8,  4,___, ___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406520" y="5059440"/>
                <a:ext cx="785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357880" y="4179960"/>
                <a:ext cx="4269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659640" y="4194000"/>
                <a:ext cx="430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88" name=""/>
          <p:cNvCxnSpPr/>
          <p:nvPr/>
        </p:nvCxnSpPr>
        <p:spPr>
          <a:xfrm flipH="1" rot="16200000">
            <a:off x="1928520" y="4582440"/>
            <a:ext cx="2520" cy="570960"/>
          </a:xfrm>
          <a:prstGeom prst="curvedConnector5">
            <a:avLst>
              <a:gd name="adj1" fmla="val 14500000"/>
              <a:gd name="adj2" fmla="val 49968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187720" y="5052960"/>
                <a:ext cx="785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0" name=""/>
          <p:cNvCxnSpPr/>
          <p:nvPr/>
        </p:nvCxnSpPr>
        <p:spPr>
          <a:xfrm flipH="1" rot="16200000">
            <a:off x="2691720" y="4581360"/>
            <a:ext cx="216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971800" y="5084640"/>
                <a:ext cx="785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2" name=""/>
          <p:cNvCxnSpPr/>
          <p:nvPr/>
        </p:nvCxnSpPr>
        <p:spPr>
          <a:xfrm flipH="1" rot="16200000">
            <a:off x="3459240" y="4593600"/>
            <a:ext cx="2160" cy="570960"/>
          </a:xfrm>
          <a:prstGeom prst="curvedConnector5">
            <a:avLst>
              <a:gd name="adj1" fmla="val 14500000"/>
              <a:gd name="adj2" fmla="val 49968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743280" y="5064120"/>
                <a:ext cx="785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4" name=""/>
          <p:cNvCxnSpPr/>
          <p:nvPr/>
        </p:nvCxnSpPr>
        <p:spPr>
          <a:xfrm flipH="1" rot="16200000">
            <a:off x="4222080" y="4592520"/>
            <a:ext cx="216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670280" y="5068800"/>
                <a:ext cx="785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6" name=""/>
          <p:cNvCxnSpPr/>
          <p:nvPr/>
        </p:nvCxnSpPr>
        <p:spPr>
          <a:xfrm flipH="1" rot="16200000">
            <a:off x="5157000" y="4578120"/>
            <a:ext cx="216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03920" y="5037120"/>
                <a:ext cx="785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8" name=""/>
          <p:cNvCxnSpPr/>
          <p:nvPr/>
        </p:nvCxnSpPr>
        <p:spPr>
          <a:xfrm flipH="1" rot="16200000">
            <a:off x="6282360" y="4565520"/>
            <a:ext cx="2160" cy="570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66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1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Use the formulas to find the missing measur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41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Find the width of a rectangle that has an area of 18 cm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a length of 6 c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040" y="2698920"/>
            <a:ext cx="2849400" cy="1249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16040" y="2957400"/>
                <a:ext cx="2881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49360" y="3951360"/>
                <a:ext cx="13510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648240" y="3079800"/>
                <a:ext cx="5475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256360" y="2664000"/>
                <a:ext cx="1784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130720" y="3411360"/>
                <a:ext cx="6922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842080" y="3395520"/>
                <a:ext cx="94752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711840" y="3544920"/>
                <a:ext cx="5479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654960" y="4043520"/>
                <a:ext cx="4381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283360" y="4073400"/>
                <a:ext cx="438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477120" y="4070520"/>
            <a:ext cx="747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445080" y="4711680"/>
                <a:ext cx="625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324400" y="4583160"/>
                <a:ext cx="10414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H="1" flipV="1">
            <a:off x="6506640" y="3471480"/>
            <a:ext cx="397080" cy="11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37200" y="4070520"/>
            <a:ext cx="7938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2080" y="5622840"/>
            <a:ext cx="38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Width is 3 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1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Use the formulas to find the missing measur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341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Find the length of a rectangle with a perimeter of 14 in. and a width of 3 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080" y="2666880"/>
            <a:ext cx="2849400" cy="1249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2520" y="2943360"/>
                <a:ext cx="2552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198960" y="2928960"/>
                <a:ext cx="11682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411200" y="3949560"/>
                <a:ext cx="3286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60360" y="4905360"/>
                <a:ext cx="31320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132520" y="2436840"/>
                <a:ext cx="6919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838840" y="2417760"/>
                <a:ext cx="1166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004160" y="2360520"/>
                <a:ext cx="16430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122800" y="3102120"/>
                <a:ext cx="28116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008840" y="3691080"/>
                <a:ext cx="91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917960" y="3689280"/>
                <a:ext cx="9115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032440" y="4367160"/>
            <a:ext cx="31384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591240" y="4467240"/>
                <a:ext cx="6573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345280" y="4421160"/>
                <a:ext cx="949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 flipH="1" flipV="1">
            <a:off x="7589520" y="3006360"/>
            <a:ext cx="182520" cy="12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702480" y="5119560"/>
                <a:ext cx="438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330880" y="5149800"/>
                <a:ext cx="438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524640" y="5129280"/>
            <a:ext cx="747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616800" y="5688000"/>
                <a:ext cx="3744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351400" y="5692680"/>
                <a:ext cx="1084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 flipH="1" flipV="1">
            <a:off x="6660720" y="4516200"/>
            <a:ext cx="397080" cy="11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4720" y="5129280"/>
            <a:ext cx="7938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04920" y="5805360"/>
            <a:ext cx="38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Length is 4 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2546280"/>
            <a:ext cx="3063960" cy="132408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1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Use the formulas to find the missing measur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341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Find the height of a box with a volume of 48 in.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 length of 6 in., and a width of 2 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61800" y="2987640"/>
                <a:ext cx="27352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 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201680" y="3825720"/>
                <a:ext cx="120492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78400" y="2714760"/>
                <a:ext cx="4744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52480" y="4905360"/>
                <a:ext cx="2147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95800" y="2419200"/>
                <a:ext cx="7653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946840" y="2417760"/>
                <a:ext cx="9493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826320" y="2405160"/>
                <a:ext cx="657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394000" y="5805360"/>
            <a:ext cx="38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Height is 4 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182760" y="3643200"/>
                <a:ext cx="120492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i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434360" y="2401920"/>
                <a:ext cx="693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164200" y="3117960"/>
                <a:ext cx="23367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603840" y="3816360"/>
                <a:ext cx="693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232240" y="3846600"/>
                <a:ext cx="693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6553080" y="3825720"/>
            <a:ext cx="747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532560" y="4552920"/>
                <a:ext cx="5414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96040" y="4495680"/>
                <a:ext cx="10825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H="1" flipV="1">
            <a:off x="6582960" y="3227040"/>
            <a:ext cx="397080" cy="11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13520" y="3825720"/>
            <a:ext cx="793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1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762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Use the formulas to find the missing measur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341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 Find the width of a rectangle that has an area of 20 cm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a length of 5 c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040" y="2698920"/>
            <a:ext cx="2849400" cy="1249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55640" y="2992320"/>
                <a:ext cx="26971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449360" y="3951360"/>
                <a:ext cx="13510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48240" y="3079800"/>
                <a:ext cx="5475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256360" y="2664000"/>
                <a:ext cx="1784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094360" y="3411360"/>
                <a:ext cx="7650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859360" y="3395520"/>
                <a:ext cx="9129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711840" y="3544920"/>
                <a:ext cx="5479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54960" y="4043520"/>
                <a:ext cx="4381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283360" y="4073400"/>
                <a:ext cx="438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6477120" y="4070520"/>
            <a:ext cx="747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445080" y="4711680"/>
                <a:ext cx="625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303880" y="4603680"/>
                <a:ext cx="10825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H="1" flipV="1">
            <a:off x="6506640" y="3471480"/>
            <a:ext cx="397080" cy="11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37200" y="4070520"/>
            <a:ext cx="7938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32080" y="5622840"/>
            <a:ext cx="38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Width is 4 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2000"/>
                            </p:stCondLst>
                            <p:childTnLst>
                              <p:par>
                                <p:cTn id="7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2034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05, 4 – 11 #1-6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07, 4 – 12 #1-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36/37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0-06T16:58:55Z</dcterms:modified>
  <cp:revision>66</cp:revision>
  <dc:subject/>
  <dc:title>Slide 1</dc:title>
</cp:coreProperties>
</file>